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7E6A7-238A-413C-B8E8-1BAB514E7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B3C9-F983-487D-B6CA-0685652705E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1F05-E628-4FFA-9A34-25B552ADE423}"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F74D-9FCD-48A5-9A33-26435D7D61B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43FC-64D8-407D-9E73-156437B1B0A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B819D-7BEA-446B-90C3-AE4A020F520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229E-14DB-45A9-9E62-E1B26ED41B7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80FF4-9854-41D4-AB20-43553B829C4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699B-0463-4CE3-B257-A3D147AF5AA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751F2-16B1-433F-BC3C-F4373BC8ADA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9DA8C-C12E-4CC9-ACD5-DACB616B15D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0D779-5B99-4A7D-A6E1-0418560763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F257-606C-4842-932F-D41F9A8A8EC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E8792-399D-4B81-BA6B-AFCF8A32AD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AA26-7C92-46C1-BA5F-DCCE1BC8A7A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0624-3057-4625-A681-E1DF3D37782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F93E0-3328-4216-BBD1-80CB01629B6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E71F-5CE5-4143-9268-D6BD592C5CA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A25E-DAC9-46BA-9F32-0A1F3B3B754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65270-CF54-47F8-A65D-3D9DAE5E10C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A4A6-1833-4789-99DF-0CE4EBEE2FD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C9F2D-A503-4EF5-962D-3E455A6BA1C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00CC-4CE0-4CC5-8448-02DB6A00F8D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C17B7-BF23-475D-9D57-4179B724A1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7542-E41F-4A83-8E3A-B3E47A921C9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C143-A277-4314-AB4A-839EC8D747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E5C7-050C-4928-B1AF-CCE03E30854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0DDFA-1EF9-4899-97ED-FCDF7523C3F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D245-A4E8-4603-9DB0-C66BC74E435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BAA31-C542-4EBF-BE14-08BD872E222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BA7A-E9F6-4185-8317-6AD8DD490C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BF0F-FA28-4D14-914B-8D62B65026F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CDB9-36E8-416A-AEF5-B4362B2BA49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7CF7-391D-41C6-9CA9-B6B924D2585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2F6B-73EE-4868-A9AF-366ABD4BA6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E14C-1266-4E34-A3C6-CDB8D44CE23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B2916-0920-4CE5-A365-6C5D4D3500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D75F855-2A6D-4CFD-9C1A-C5C5FF3691B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E3E89908-FFDF-440A-A15A-D18182EAB74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239885F1-438D-408B-B4B8-E854C057047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FB3250F-777B-4538-83EF-6C23F0FEBE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56A5D8AB-9581-42FB-B042-B69F4271F7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9B626EF-1BF1-42A1-849B-8C5A9CB4EF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1E5B3FA-B08A-40BE-A67C-18DF54244FD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133DE041-6DC2-424E-A8AD-A9915ADA43A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BC2AD3F0-C372-4643-B08B-EC1CF82AC8E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FFED1A13-091C-45FF-B563-A9F33D55E15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5329F91-FE69-4192-8DBA-443F2F8AB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F12B52A-F583-45A9-BAE0-8D7608A6CAB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DC92DE1-4A84-4B91-931E-B64DF73BE17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A869B6B-E82A-497F-9F73-E42A2A1B6D2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16023B9-8696-401E-8718-0D2AAEA463F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B4DB4EE4-BFBB-44C4-B61A-10DBAF8A734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65E2692B-6B03-4042-9DAB-D90BD63A5BB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68C7D57-D3B3-44F4-9662-A181059EB6E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C08ED07-1823-4D24-AF0A-C7C5EA9B5F7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DF14BFD-A376-44F9-9C3E-0BF36389461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48717867-E1F7-4C66-B269-E957042482F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CA33798-D3FD-448D-9236-9E69427BEB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F612649-2018-4AF3-8D68-E41C31BA45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5D480173-A6DD-41AB-AE30-A6E97C2362E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375088B-2B98-428B-A9DD-D7BFA2F04CA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0BAC0D5-1D72-4908-B0BC-C8EDFC384D5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9BD63A2B-6A27-4474-B9F0-2C43E085B06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36DEB8C-D753-40FC-971E-91FBD8BF6CF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6E7ABC98-248C-4338-8E17-69F4BA1A048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F6A50E24-AF53-42E2-BD56-97609FC95A2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C80610E-4B70-4DD7-AB49-ABD36DDFC0B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7525A8C-56C5-4F85-AC19-B0F3EEC19F6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967D4A15-7DB8-488E-958C-148246E573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BE120C-F4E5-4E29-BABE-F034749D44B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3D3765B-34CB-4B9D-A248-110E73FAA84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60142CC9-B196-429F-AA66-9F136C5332D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3B116FB-1549-42B2-9727-03EB43A7F4D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A4E1457-C564-4B79-8D9E-B29385F87AA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AD296983-F3AA-4990-BC26-F3680C7A837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0A90412E-3500-4513-A216-F27DCBF926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1640A497-C814-4C95-B59F-C4C58942808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EBB0FB02-719B-4A3E-95D5-6834E0181CF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A49BB57-71CD-4C84-B77A-2555C5DD10D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622F72C-A277-4404-A81D-DA5BEC737E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D9E2D7C0-32FF-42B4-A4EC-3C13869C4CB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30DE2DA7-D321-407D-9551-750DE34F879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44C96268-EE75-4C24-8690-3DC2FE95ADE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0B9BA62A-E94F-444B-944B-31B578DCEA5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45963ED-1076-4281-ACFC-4BD426B579E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7F6C99FC-A938-4635-81EC-E963C9C26BB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1FB575C-6C23-47B4-956C-73634BCE3D1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E9E90BAB-523D-4529-A886-1E87C322E05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932BF09-F729-44FF-B8AD-AB9EDDED9DB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06A95E95-2EAC-462D-97A6-41AE77F3A93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91C90D9D-3108-450A-B480-E5B0F5DCD0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821C17F-DD66-4FB7-80B3-74AD5FAC8473}"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483009D2-3C57-4B20-B17E-D03FE75F27D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3526F2DD-F256-425D-B1B7-96BF9776C38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86645CB5-5155-40AF-A4DE-04BF644591D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D0F8EF3-C659-4E4A-9D46-C3D9A865081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15988507-84E7-4018-8CF2-D1B49028034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66DFD02B-8E15-4E5D-99AE-333661BF8B9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553D04EE-9C30-4BDC-A50E-F3CCE03FFCEA}"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7C3D60E-65E2-4CD9-84E8-37F646472C4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105C0C5-4CD2-4A51-844A-D77ED4A84C0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17ADDE88-2ACD-44C4-A0D5-8632327C46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6EF795C3-75D2-4457-A6F7-A9D96DDF440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E23B5164-3BB1-4FD2-890C-C68FB767153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18AACEC8-C100-4802-A670-0B7B0D911CC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76B7D10C-E269-4AE1-84DF-FADBA7E4789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5CCFE4E-8B1C-49B5-B4E4-4F746B119059}"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88DE0FD-D9A7-4909-9768-54198BEAB50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9CEC603-D102-443C-8619-4D1AD4DB775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F6B9B2BD-989B-47A1-A57D-92890B8B457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A1F65AC0-FCF6-4603-8414-104F3FDDA24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47B79894-5E1D-4477-89A0-03AE6AB87E2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DED2C55-7190-4573-80C8-9BBD056D7E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A55D38F0-BF67-4C07-952D-11C14BD245E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631E4C2-CAAE-4EC1-A769-3087B34A23A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20C31ECE-116C-44FF-AD14-27736ADC58E7}"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CAA8EEDD-1BB4-4D30-BFB0-1480D2F0D6F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4EFB2B9E-403F-4331-A193-425C0AB5E77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78C90946-1223-4580-B378-EC7DF3C2D07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F021539A-5CFB-4D00-A660-4B1F891F922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A084D9B-A4F6-4983-803C-859866ABAA4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91146AA4-6F96-4D59-924F-3F0E72D379A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597B15C7-E230-49B1-9CBF-85CF2F4BD524}"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646F92C2-E4BF-4D61-BE12-C271708A29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AB0D4438-A00B-4D8B-A0B3-3B55F755B2F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3666CF09-1521-4610-8FA7-FC35F54C965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68F8AEA-A1F8-44AE-AD2E-CA35E19A20F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A3FA74B-A70D-472A-AAE6-3C4691C70CA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7ADD3020-A5B4-4445-810E-4CB100C4287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2A967B30-677A-4C56-89D4-AE5AFCCD2D1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BD87E82-ACFE-40F3-B8D7-CEC8ADDEAC8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CFCEB567-8AF1-49CC-8DF0-85244B346075}"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1A01E0FE-B7D2-447F-8960-E49ABBB5363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20B1CE4-FFA2-4F27-AC48-3889E7BC4E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A9305862-748C-43C0-94C9-87EE2EDEB2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F8D478C-DA16-45C0-BB2F-26F78D66618C}"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20925E0-0664-4AA1-8CC3-2E5F4EC9B9B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9878348-4EBC-4C4A-9379-E66863C3F379}"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15CAE6F-0136-4F45-A790-E76849E6FDE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064CC75B-079B-44A4-9585-006DF173901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DD56E40-2A64-4862-B2EE-B3069A2C914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150BDA4-A3FC-4F8A-9666-63963F350A1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57C9D07-E031-42C0-8EB2-5864B71A01D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B960FBF8-25BF-440B-854F-BB604CCE7FA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857F49E-6F18-42A0-88C0-30363EB16F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8808BC0D-22BE-44F1-911D-01DD93B8958E}"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ECAFB687-8BF8-49E9-8BE6-EACCCAD0D77F}"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327E4873-E52F-4C13-8362-86A82867989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B5C7F58F-BCF4-47CC-A4E4-05C73E0947A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A64D785-48D9-43BE-858F-0A2D9A9F775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681059E5-CEAD-4D4D-98AA-59AFC12A347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CCDF668-34AA-4822-8EEA-B69895E9DFE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3C18906-3B40-4A42-9AA3-8A73D876A33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AFC3611F-6E50-4D67-981D-F0012805292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42370001-F82C-4BFB-9AF0-C69E38DDFD7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FBDC432-188C-4AE4-958A-2245B22493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9911D0CB-1506-4007-BA6D-A9E220454FAB}"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E63655CE-C91C-41E2-96D1-1DE9894AE0A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97FBA58E-03D1-428A-867A-5675E9FB02B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922EC19-62DB-44E4-B7AA-2C37A3BD320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9678F27E-D0EC-4285-853E-CBD6EBBD58C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F92B6A5D-63D1-4417-B355-B4BA723F26A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FFAA5D3-F184-4435-B630-D41D3BCE115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9F812550-302A-44AE-BA76-F6A9CC2F6AD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77D5DDD-9476-4AF3-93B7-C6BC3058A1A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1CF8500-2593-403A-9999-1134F714E93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30EFFE4F-CB0C-4782-9E47-00C5D17D27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D5893C89-35D9-4A44-8771-F1CA8648266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A759562A-2F78-4D79-8330-48390838C98A}"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8A6455C-F995-475F-987B-8601D33E9C6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337712FF-B419-4306-9244-927D447BD9A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4EBC5724-BFA7-4A46-AB47-7C14EC17BE12}"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77EB8EB-3218-4F26-B5C7-1C11920DB50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6A600A1E-F40A-40B9-B679-8351BFB9426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1B6E9DA3-4B62-4872-9605-0C96422F90E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C07D997-3807-47EC-8464-E4A608101D8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1CC44BD-2473-434D-8B87-F50778A955D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01403A30-A572-4F85-BE7C-A6E1FF6880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E4F281-79E3-42BA-B583-AE0880121D1B}"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0100335-B690-4229-9810-F402F8B9521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6321A72-D572-4026-9B0E-5A831F3686C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69561422-3FCE-40F0-8C4B-8387AB733C7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0D960E7-E221-42CA-A9C7-6FBBAAA3B6C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4E15CE94-8CF9-44CD-AA7D-953B91E9D19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55E037C-4A5A-47F1-94F8-27589C25556D}"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DA447FD2-B66E-4A7C-B5F3-A80297CE401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44D09869-D662-4047-BB4B-8355AC6AA95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8E7EF897-4CFC-4CAD-845C-D6B3DB3CDF0E}"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3140B5FE-B38B-4131-82FF-4DC1C2E68C9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C624074-F25B-4D13-9FD9-2F401FF0B00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62086BE-DDD0-423F-863C-E72B388A819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3291567-BAD4-43E5-A79C-B80A0C06F9D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630F128-418C-4AE1-BD46-F3668BE27A4A}"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70D23605-33EB-40E1-B03A-F51884E5DAE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C5E23233-6659-4BC0-9C8A-28CBFCE3BBC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C6DF48D-9E3B-4CCA-841C-FAD78127FB92}"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B05E55E-3A28-47B9-BB50-22B6B5DEECF7}"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CCDEF7C5-4F5E-4563-BD8B-2F350162E50C}"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66EACA88-B643-4974-AC57-E2A418715C74}"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79103C42-2933-46CB-B506-DA83871A0BF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30285893-3727-48C7-876F-39B993949B0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8034B1AC-30DE-4DAE-8D8B-890CDC6A195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5E3B1AAA-3039-4FF4-8E62-2A05C0CEE241}"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33AB6F1-3357-4C57-B0E3-B0C5E5795CE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DBA639A-ED60-4E12-9EC6-5AE9DB1E567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254864C5-FED7-41F4-AD62-C23FC2ABEC34}"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776B91B4-9EF5-49F9-AC4E-3E377BF6647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16861F62-776B-4ECE-AD15-BC53C108D50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165BAC8-CA8C-41E8-B9C3-587CE0716B7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7DC137C3-9D92-4446-BC19-A576FDF8716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81117DE9-F396-448D-8441-9C31EE26DD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82F744EF-838E-4033-BFC2-6C7CF8EFD7A9}"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E89923A-29C0-4449-A2DC-D5AE5E1119C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84FB8C22-CE43-4053-96F4-5D3FAB618FA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E655C272-7FAD-4E28-B20C-A74D87442F2F}"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70850B8-CC77-4A3C-9080-A6B45168410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A169A6D2-D3C7-4856-993E-0483C4A5309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FBF534A9-6ED1-412E-A1EB-750AEEBB343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BFAA8414-65E6-43D2-9D68-1661F3BCE524}"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D2154CB1-5631-4710-A022-E38514C04432}"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4450D5BE-704F-4337-B0C8-A7CA27B21D23}"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D717E59-4274-4AD6-ACCD-82C8F538605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38779461-565D-440B-AAE0-D9DE1FF064F4}"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5A0D53EA-3AA4-44A5-B621-285145DE3E5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C5C5CC76-48C8-4AA9-B8AF-527DEEFC0B9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47ADD882-700B-4978-9F0E-343EBC6B6731}"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538BBE8B-F246-4425-B2B3-4EFD2137A692}"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7EDD8B3A-DFA8-42E2-A3BD-6C2F1ED357A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550B36D-26BF-4474-B294-052DDCBD3768}"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D721E39-3DA3-4BC7-99FA-2D586B50E43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E2D2667B-9E25-4013-8921-76ADB01BBF5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FDD12D3E-42AB-416C-A1B6-7BDDFC54B29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51E349E6-E556-493B-B6F6-3922EF7F52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69E20920-9A6E-40B6-A55B-A8E7DAB6516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B639272F-268E-4D72-B14E-BC758254568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3200F913-6514-4C3F-B553-F5E2AA04BD6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28618D6-FA3A-4426-987F-964C10B55196}"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246B3A32-1CDA-4841-966A-1F973E9A504C}"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BBEF91FA-E36C-4B4E-82BB-83EED13AC52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58D807F6-2E4C-4FFB-9D80-088FA50F260E}"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18F0C7F2-8588-4FEB-907A-77CBC6537DB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B55F49AD-A028-44F8-B088-F0EF30B81DB6}"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698BD1C9-A7D2-4661-8ECC-3D01A23719E0}"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D730D9C8-391D-47EE-AB5E-D406E14BBEE4}"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B5AFE356-9E30-4E7A-8CED-93A67FC983B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95D8C615-5130-4356-B8BB-87EF2C3CB9F1}"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F3451C95-B10A-48AC-BFD3-546C5355CE9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2DCCC573-B330-4760-BA05-7BD77595D225}"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813F4C7B-2B4D-4798-BF61-26432C7B8AA5}"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B7CDF15-F98B-49AA-B399-57D1ED1CC8F6}"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0258CD6-4A80-491C-B83C-CC27B101B459}"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B091609C-2748-4409-A1F2-097673A58A2F}"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D7B4C0A0-2801-478B-892F-CE491A9F9B93}"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16C3A671-020F-4571-9F2A-0B4E162E374D}"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2E7170FA-6FFB-4D62-9C75-4B25D879A1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DCC92E7-4DA2-4D88-9AF9-F04219E4D94A}"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B173EECA-EEF0-4526-B37B-8DB8D47BBBEF}"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FEE3B979-4D1B-4926-97BA-4AF2270573E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9845C631-F554-4FE2-A867-F5DAF6DFDD6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2BC6F469-F865-447F-9D2C-926A7BD76A49}"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9DB057F4-050C-4D20-8AF8-19EEE52E63E7}"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2A4E8E34-1DD6-4F39-BDB7-1C2B2857DBEC}"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7F376B40-A4A5-48D3-8B1C-D85C3A622B09}"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7BA3AA0-5B53-4175-B97E-E2660E17B77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9776D54-A7EB-4F4D-85E7-43FC6D977B8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E07DDE26-FBF2-43F2-ACBD-D053FE7F2C04}"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7159BF4A-09BE-4B45-8226-9CA32549DF5B}"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73B376DC-3A4F-4F80-B8D0-FC790D029DA7}"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0756A366-CDFC-44DD-A08E-05A2F981D446}"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220F0D7D-AC10-4B53-BDB2-252673AE337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49A99FA3-2E0A-465A-9644-FEA24E5E759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3A5784E2-C82B-4EFF-8540-A9161DEB8AAF}"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F556EFC3-B5B7-41BB-A713-7E1C004E1D2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318BFEFF-7A12-46C9-B4D3-1B0EC7BDF216}"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F2A64EBE-079E-42DF-A275-4599CBAE39CC}"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D7ECFBB9-32BF-472D-8AC5-D68EE8B9354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39C111B-3B4C-4DD2-ADD7-8BD18E82A8E9}"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519A214E-B23F-47B5-B092-A310E8A818E2}"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049BA19-74F4-480B-89CE-616F3998011B}"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749646FB-9FA9-4B9E-9C6B-DFF779EDD309}"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B56DC8E1-ED2A-435D-A0F3-368C59562109}"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8ED567CA-94FE-419B-9761-DB137DA86F8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FA86B45E-F537-4859-AED7-93907EB7589C}"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441FFCE3-37B0-42D8-A4A8-102164EAA52C}"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A6921780-D3E5-4EB7-9858-C662F08D8DBC}"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565D29B9-8A63-43E2-8FC0-5AB994EBE7B3}"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339CC945-4AF9-4F40-B8CC-045A3729194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D5A51F22-4F5D-4B34-B961-9F08A39D1FF1}"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6B2FBCF2-E09A-45E7-9EF8-40F0B3ABC597}"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2AEA25A2-EC71-44E2-AC0E-B28F0FF39750}"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1B2E1EA-ABF3-4CCE-96D5-A43F3D4BD1AC}"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84A7E8B3-D3FB-43F6-B87C-268C5DD8CA23}"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20B14228-D3CD-4053-AA5D-F8F38B426D61}"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81E8DA46-C11E-4584-A6CB-1150A011E576}"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A66DC6E2-E7CE-48C9-87DF-E78941C0E91E}"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A4B16647-512A-4E28-AAF5-70F430BA3F0C}"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C1D63B20-210D-41D8-A966-007D9594FCD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1BECB878-30BA-4FCB-88E9-A7DAD346192F}"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7382A7D6-0C50-4303-B3F5-3582C82138D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1850C96F-FAA0-4F59-ADD1-5DE13AA63AA2}"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FB4E143B-CEE9-4ADC-A409-CEE41A60FD6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6C61BA98-9773-4748-BD01-7C8C9E83ED2E}"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835720B-404B-4B96-ACAF-7C9A204F97E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6CCADF07-9943-4945-B258-B5F9669DBD25}"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24629E0D-6BE7-401B-98E9-A1C9571BEF14}"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50651484-2F7C-4DCB-8F87-A17E90B41E2D}"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FCF93D52-699E-4144-8997-CF3F12F2ABF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EBB8BEAA-A8A5-4193-9C46-901D7257649F}"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B3736A2-765C-48D4-AEB1-3D06670445C1}"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D8EF8BF3-3BAB-4C1C-8AF8-4828905FF674}"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0E9602A7-8FCC-4A3A-9741-D4A1E14721B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1F9EFE42-F643-42B2-AC16-A3BBEA5C51BD}"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09C09C64-2B68-4200-AD1D-82804CFBEE35}"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44816588-E9FE-4C03-BE97-27A24496082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E0BD02C7-E0A3-46ED-9C41-6D0A15E0FECB}"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818B55BD-092C-41F9-AD2F-B5744E8DB871}"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2DE1F420-C7ED-484B-8F01-120EB0E15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58AD84D9-044B-471C-84CA-30807196A0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3A895D29-AAA5-4D65-A5AC-A52D2C8FA30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4CBCAA74-2F7A-49DE-9735-430B34BE5F9C}"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0CD7AD7D-0631-4CDD-8F43-EFDEC9B3F8A2}"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73A8BE5B-AEB5-4ABB-9B9B-C3AE674AEB3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396127D0-9133-449C-8AA0-0B3C377B21A8}"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7A28262-837D-46AF-9C93-3D9E8562B480}"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3530969D-B0A9-47A5-9E75-B2DE53CB1153}"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0BF05F68-EB61-4857-BDAE-D9D150193C73}"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C3FA9BE4-9724-4822-BD89-D881CC5B8864}"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86528F4E-86FE-400F-8A5B-9B948F7F299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FCC165EC-1047-434B-B3EC-D37EB77A10A1}"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BA06FCD1-8505-412B-AFEF-79C16A41A195}"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172ED161-E5B6-4987-8E79-5EE3C11FFE4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26229645-114D-4CE7-9951-72246A3DF36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DC9A433B-2C36-4245-97D2-B689F249C771}"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834C4364-A80D-4F0C-8D05-B4CC291DDA4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EFD519AB-6078-4443-9D64-AAD0F533BE83}"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477CB6B7-71BB-4FF4-BDAD-3AA8A04A0BA7}"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75F5356C-A4A6-4697-936F-FDD7AB3D4822}"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8D06334A-1A31-4A18-9907-4BFF7826055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13FDD4A6-BE8B-4930-BD35-5F90708E0A2F}"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9CB4EFCD-D60B-429C-AD76-F6C2FF9C10D4}"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743E4D4D-828B-47CD-B93C-681831F88F5B}"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C8F53EAD-167A-41FE-A3CF-316AC11614DB}"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063392C7-E55B-4AB5-99FA-8CC2E56C9A0C}"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39BB4831-591A-4668-A147-DF419549F11D}"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189E9874-291F-49C9-B016-87BEA4A42715}"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76312FC2-A943-4460-AAA4-4C0729B4DB3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2B82DA3-0B7E-442D-A2A8-BC30DBCC0593}"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AE607E68-D9F5-4545-98BD-3B3D0B3AD63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416D1105-9828-4C74-9F3A-2E995B8340A7}"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61D4D539-702D-44EA-9D9F-C64A29B05AC6}"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796ABB7A-BFFB-4634-A6CC-A17C49DE897B}"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226EE07F-A320-40F8-BAB9-5D2D837B60D3}"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4F3F8046-8D72-4582-AA2D-025C52663949}"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8EAE269B-58D2-4DB8-9901-2421B9F81294}"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BE8BE182-D437-477A-80F9-95797E2BA403}"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0947C3D8-F735-4B2C-8D5D-9073F237AAFB}"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6F95AA6F-EB27-4B1E-A76D-89410489F946}"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90E4D1D2-40E5-4FC4-AF2C-AFF8A7F4F2C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773F8989-C308-4997-BA52-BD29B0A73138}"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5CCC30F6-D2BB-469F-9EF4-D5FB99FA1D0C}"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F21C26E5-5CAF-43BC-A670-20EB6D34FF2C}"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F747E74F-AF6D-4E37-AC71-2D1C87ADA68D}"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6543B745-31FB-4326-BF74-A98DAE50B1E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4BC92A-1B72-460A-9EF0-A9454304C6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DDD1B65C-47AA-48A0-8224-E754F635F1B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97AA7286-CF41-4D34-BD81-781DE26044C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B7032462-4299-467E-8FCD-1A91E400A91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551B17B-1F8F-4532-92CB-8D632FD97B9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C12EB522-CFB4-4D2C-B0EC-081A17209CF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4CE0A87B-24E9-4D6B-B011-8C7C5D1887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84ACCA05-FDE9-40F8-A332-6D2CEC52A50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C819AFA9-9789-425D-BC72-AE3C52369EA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0894794-93DD-4D93-8637-E9F23ED8037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CAE33984-8970-44E3-9196-2EEAF7CDE01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1891641C-0EE1-4F67-A1CE-3E298C1180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0CB5B520-1859-4F63-B43A-E38035E9705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930DF2E4-18E6-4EE4-9AFC-6CADCEBA355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F380AD-AB8E-4727-9B74-CF0DACBEB62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3B24873-F427-4706-B9AE-E1A4C90C1DC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F0481F01-5DFB-43F5-80DB-62D7A0DC1CE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E818BA62-5DCE-4575-A17F-F517F9635B2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A1A0C8ED-40CC-457D-B1E0-694EBFBBA7B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31D847B-02C2-48A0-9799-ECEC25C34C5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8F5379F-AE5A-465B-B0B3-F2FDA19FB72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EA0D016-7A34-4B91-83B4-81AA2CB627D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7802006-9215-4198-A3E8-968D58A301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725EB8A2-9923-4CE2-824B-05CE165885A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2FA098A0-A8EB-4AB2-BE14-1439DD41DF3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0291D16A-423E-4BFE-BBAB-DDE94ADE87A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94E96ED0-B594-4B10-B0E3-7C36C68FE27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D2346DA-0B76-4F5B-B4A8-5EDEE90DFD1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0844270-AA1A-4253-946B-5F6A7B9FE1A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3F1B01D-D4CF-4CFE-BEBE-0B662C18E22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905E305-514C-4E66-BEC3-4515E97C3A9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DC3DB45E-95FC-434F-A4F8-FDB0B724347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2BB65846-95F9-469A-8655-DAB0D340524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7D044CB-C15A-45A2-9C85-FD4FCFD0591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9E6A4E34-5C3E-4279-B601-0CAB0BEE512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CC5B9AE-BCCC-4F7B-BC85-AFFFCACAB89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150F23B8-7FE1-488C-9643-16BD052B139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96A17316-A9DB-48FF-98A5-8F5DCDE279F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53297E8-7A34-438F-A2E1-ABD15E8A332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241D4216-3FC1-4E87-BC5F-DA7C93FC7D7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E91A62BD-EB96-49C9-94B9-6E9C1691847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5705A26-DB18-4CB7-999B-0B4EF0C2613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6B661F18-8CC0-4F06-A150-4F03CBB1145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F85F0BB6-CCB5-4DD3-9348-1F2FBE0CCD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A7B1-0848-4056-93A3-94E7D7351D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97AC-A1EB-4870-8BD9-D5A12C8843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42D1-A1C1-4347-A88B-B386E22874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E7451-9C60-4F38-B90F-68D5647910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7FEC-F48C-4D7D-A046-939AA01F20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E6CA3-3B94-422D-BC02-9FF420F2F0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3001-E12A-4B0D-9CC9-4D5AA2103C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EEEF8-095A-4F33-B336-DFA692FCF0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95FD-4760-45FD-B53E-065C356DFFAA}"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C9D10-03BD-4CDA-B1DB-05C9DF08D7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035E-7005-47F5-8B29-1F9F87C2FD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4AC1-DCC8-4BC9-BB76-A23FCEABD3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4FFA5-56F7-43B5-9758-15A8661977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8B5A-5F8C-4433-AB9D-ECFFA84305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E5EC0-0F6D-4271-A91C-E55B4DB484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9B8E-A911-4F5C-BE16-3A0F38B828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7B1D-5080-4D27-A608-4D601D7183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CE4F-CED9-41BC-AF73-792C0A12948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340B-AA33-44DC-A369-77EA63F021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A3E3-DFB5-4763-9ABC-8A984A06BBA7}"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52E9-5B27-48FA-A63C-1D651BC90B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9"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7D5FD-1E5A-489F-B04D-0053956759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3"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C447-A5D3-406E-A537-011551A084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7D45B-91D1-4DFD-96FA-C5971D29C9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BD825-2408-4BCF-AF24-747136C2AF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F9731-6586-4130-8758-15CBAFC4AA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46884-AD37-4E6A-96FF-17B9D775BD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52C40-B81B-4A91-8986-8FD9F19C45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E8F2F-3D52-45A9-82BB-FA30A19F5D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A490-AAB0-4777-8FEE-7C7EB1CA60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FEA1C-6CE1-4370-877E-06EECB279F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57B0-BF55-4DBF-9710-2257E639A469}"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486C-153D-4CB9-886C-A22C654943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4B30-BB87-42B3-BE54-95B34B4059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6676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8960" y="6480"/>
            <a:ext cx="5086080" cy="63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71600" y="1981080"/>
            <a:ext cx="6438960" cy="3305160"/>
          </a:xfrm>
          <a:prstGeom prst="rect">
            <a:avLst/>
          </a:prstGeom>
          <a:ln w="0">
            <a:noFill/>
          </a:ln>
        </p:spPr>
      </p:pic>
      <p:pic>
        <p:nvPicPr>
          <p:cNvPr id="1620" name="Picture 3" descr=""/>
          <p:cNvPicPr/>
          <p:nvPr/>
        </p:nvPicPr>
        <p:blipFill>
          <a:blip r:embed="rId2"/>
          <a:stretch/>
        </p:blipFill>
        <p:spPr>
          <a:xfrm>
            <a:off x="1333440" y="157176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AF35A-AB32-4E0E-8EE2-EC56A0DC872F}"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a:t>
            </a:r>
            <a:r>
              <a:rPr b="0" lang="en-US" sz="1600" spc="-1" strike="noStrike">
                <a:solidFill>
                  <a:srgbClr val="262626"/>
                </a:solidFill>
                <a:latin typeface="Calibri"/>
              </a:rPr>
              <a:t>1/8</a:t>
            </a:r>
            <a:r>
              <a:rPr b="0" lang="en-US" sz="2000" spc="-1" strike="noStrike">
                <a:solidFill>
                  <a:srgbClr val="262626"/>
                </a:solidFill>
                <a:latin typeface="Calibri"/>
              </a:rPr>
              <a:t>).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4764-4976-41AA-A94D-1E2C906F8C0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7A83D-6486-4B5D-8FA4-0985994CBE97}"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239F8-EDAA-484D-BB8A-B2B46B4C0B36}"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90720"/>
            <a:ext cx="8167680" cy="46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6480"/>
            <a:ext cx="6396120" cy="654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1:08Z</dcterms:modified>
  <cp:revision>36</cp:revision>
  <dc:subject/>
  <dc:title>Deep Engagement with the Shifts of the Common Core State Standards  Mathematics</dc:title>
</cp:coreProperties>
</file>